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2.gif" ContentType="image/gif"/>
  <Override PartName="/ppt/media/image6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4.jpeg" ContentType="image/jpeg"/>
  <Override PartName="/ppt/media/image5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1CF2-97A3-4215-A6B4-F343F59F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598-33A5-4455-8A73-6B94DFB4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8F17-4AEB-47AA-A390-96449254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4B79-84A9-4B52-A8AA-AF829E54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703D-BEEE-4D94-98F8-DBAC6C83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4290-A136-409D-9711-75429BA0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EA91-3411-4EC6-8900-C3391B46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CF9E-55D2-405F-AF56-41A54549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26DD-7877-41ED-8FD2-AFD82A20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FAF1-1F7E-4F7D-A6C9-DB075F37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AB58-A309-4D29-A66C-4CE0165C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93F-41F4-41C8-80E2-76499B3F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6D84-3053-4412-A4A3-3849A4C4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A6FA-FC90-4A52-975D-56CE24F7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191C-850C-4D5F-9398-9D1A4024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B21E-2A4F-4787-9470-2CAC66A8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A16E-898B-49C9-913D-982AF467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1C8-0471-4AB2-BECC-171BA39A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9EF-7A92-42FA-99F3-A5A82474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A814-1D3A-40A3-8012-38435752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124-8281-48AA-BE73-47BDF213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9AD-ED3F-4C11-9F13-39AD8EFB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B06B-4A1B-4BC6-8ACA-BA426D6A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5015-CF54-4D37-9F99-896F4F62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5A32-EED7-4D86-AAEB-D730C372E5E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B7B2-1374-4829-A51A-CB763C1162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28600" y="1371600"/>
            <a:ext cx="89154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чему солнце светит днём , а 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вёзды - ночью?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5400" y="500040"/>
            <a:ext cx="44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Звезда Альдебар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9120" y="42372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Звезда Регу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1720" y="72864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Звезда Сириу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676520" y="0"/>
            <a:ext cx="6095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вездие ль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6933960" cy="4214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62120" y="228600"/>
            <a:ext cx="73911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звездие близнец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- это огромный пылающий шар, это тоже звезда, которая нам кажется большой и яркой, т.к. она расположена ближе к Земл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066680" y="182880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 очень горячее. Без не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нашем космическом доме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ечной системе- темно 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лодно. Ученые, которые изучаю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, говорят, что его поверх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поминает кипящую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ш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мпература такой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ши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6000 гр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743200" y="4191120"/>
            <a:ext cx="3276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762120" y="0"/>
            <a:ext cx="7467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8623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нового узнали о Солнце и звёзда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0160" y="4233960"/>
            <a:ext cx="87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вам понравилось сегодня на урок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3504960" cy="3352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133720" y="0"/>
            <a:ext cx="624816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228600"/>
            <a:ext cx="7543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утешествие в космо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2438280" cy="373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9080" y="1033560"/>
            <a:ext cx="783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Скафандр-это специальная одеж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для космонав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1752480"/>
            <a:ext cx="2362320" cy="2438640"/>
          </a:xfrm>
          <a:prstGeom prst="rect">
            <a:avLst/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1828800"/>
            <a:ext cx="2819520" cy="28954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648320"/>
            <a:ext cx="3733920" cy="1981080"/>
          </a:xfrm>
          <a:prstGeom prst="rect">
            <a:avLst/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4952880"/>
            <a:ext cx="3504960" cy="16765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760" y="19512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 вы думаете какую форму имеют звёз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9080" y="320760"/>
            <a:ext cx="885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 всходит, освещает землю, начин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981080" y="2362320"/>
            <a:ext cx="5562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457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А когда заходит солнце, начинается ночь. Ночью светят луна и звёзды, но их свет слабе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солнц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5:57Z</dcterms:modified>
  <cp:revision>9</cp:revision>
  <dc:subject/>
  <dc:title>Звезда Солнц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a000000000001024140</vt:lpwstr>
  </property>
  <property fmtid="{D5CDD505-2E9C-101B-9397-08002B2CF9AE}" pid="3" name="Version">
    <vt:r8>1</vt:r8>
  </property>
</Properties>
</file>